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DDE4-FB89-4F30-8944-3EE41AD76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EC64-0F93-4D27-960D-84ED18EF6F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F9D-CBE8-4239-A79F-4A295F0B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49D-E88B-418F-911B-A2F1644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647-7233-4FC2-915C-35D494BA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339-DB6B-4AC5-9625-ADA7E2A9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A347-34C9-493C-BC30-B7D84D3A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6FF4-B93D-4D8B-AABE-18F5FD2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BADF-DF43-410F-BE48-5A6F0477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3691-F6D0-45FC-A8A1-E3DCE82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BB74-E5D5-43D3-9D9B-0774222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3FCA-3226-4A07-8C2E-EB6777F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1BB-2FE6-4C8E-B2C1-D2B7A96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617-0F96-4352-906E-7EC8EC9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365B-AB23-463F-9B1B-88467CF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E57A-37D6-456F-931B-217FBB4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F1B4-F54E-445D-AAAC-2C9A804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3CDB-EAFB-4BE5-96EC-F758C3F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DA3B-2BFB-49DC-A230-8D0DBA83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0A92-B35E-4EE5-9342-FC48BFB6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435F-23C1-46E5-8862-4D52E840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4ECD-C496-4A26-8BFA-2179D6B6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A156-0762-4A90-BE21-ACA833A0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7C8C-CD9F-4B5C-9FA6-09153250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97F-EA66-46E4-8FD5-1766C05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0F4A-8C4E-42E7-B998-234F4E6D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2103-004B-4C9F-BC98-DFF6A84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5BCB-2750-4153-9D96-5E5189F3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256C-02F3-416F-9BDA-94B9CFBA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7ECD5-90A8-410E-9771-8AB500D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B091-B600-45A3-A69A-9751DE24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030F-3B71-4E50-BC21-AD9DFD29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CFF3-E634-4D32-9AE6-807D9B6B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F8C9-FA79-4672-891E-AA476F76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5716-F090-4767-92DF-C74D670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254-88B5-4DD4-8443-106B860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B95E-CC70-46DD-9AA3-9871C044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C6C7A-3FD5-4CCB-86F4-D480DBFB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378A-5037-4152-B393-4A89739E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7B78-B4A9-4D6E-A57D-4974CD3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CF6F-B753-4932-A6E6-E618B89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1D89-7BBF-41F4-9803-FEAF036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B993-2015-4F15-A1B6-9003F3C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CB499-90BA-40C1-A179-44F47EAC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0719-AF0D-4E3A-AEE7-36B4C022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2640-C5F0-4786-9E19-2FFE609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6DC-C1A3-432A-A0E7-53C3B666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C260-FA19-40AD-B1F3-F15FCE04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1895-6DA5-45E9-BFF4-CBBD7C15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726EB-4A07-4369-95B0-D5A23459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13AA9-83B4-4C84-89F7-8AECC352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B47D-C97E-4C17-8C69-4DBD9E5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6BB2-7B6D-4CA4-8F53-CC6C78E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5DE9-46F4-45D4-90BA-83F11B41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6FCA-F61E-4A06-A231-BCE3DD6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DD1C-6615-4E41-91E7-B16D837F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E6BD-E2AE-4E58-B377-7D925F55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DC6-3918-4CE7-AE01-1EAD0E82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DE9F-66A2-4344-8001-7C7F0DE8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9AA-348A-467C-AADB-71F80DF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9BD-8507-4C23-92CD-9140290C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8D9-390A-4077-B0F5-4F99349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1542-7858-46B0-9229-CF6DB8763BE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D99-2DE4-4547-95DA-BDFB32D31E2F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C40-4F41-449D-8B22-FC847A85BBCC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F985-A83D-4DA3-B18D-58DC2807998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475-8C11-4673-89CB-55291332204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ofhs.ltkalmar.se/" TargetMode="External"/><Relationship Id="rId3" Type="http://schemas.openxmlformats.org/officeDocument/2006/relationships/hyperlink" Target="http://www.ofhs.ltkalmar.se/" TargetMode="External"/><Relationship Id="rId4" Type="http://schemas.openxmlformats.org/officeDocument/2006/relationships/hyperlink" Target="http://www.gotland.fhsk.se/" TargetMode="External"/><Relationship Id="rId5" Type="http://schemas.openxmlformats.org/officeDocument/2006/relationships/hyperlink" Target="http://www.fhsk.skurup.se/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Vill du bli författare?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8" name="Rubrik 1" descr=""/>
          <p:cNvPicPr/>
          <p:nvPr/>
        </p:nvPicPr>
        <p:blipFill>
          <a:blip r:embed="rId1"/>
          <a:stretch/>
        </p:blipFill>
        <p:spPr>
          <a:xfrm>
            <a:off x="5546880" y="4121280"/>
            <a:ext cx="2506680" cy="1931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288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krivande och läsande hör ihop. Om du vill bli en bra författare är det bra att läsa många böcker och många olika författar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n kan få goda idéer om hur man lägger upp intriger eller hur man t.ex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ör en ramberättel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Bildobjekt 3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ubrik 1" descr=""/>
          <p:cNvPicPr/>
          <p:nvPr/>
        </p:nvPicPr>
        <p:blipFill>
          <a:blip r:embed="rId1"/>
          <a:stretch/>
        </p:blipFill>
        <p:spPr>
          <a:xfrm>
            <a:off x="390600" y="743040"/>
            <a:ext cx="5645160" cy="6005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ingeli.kroon\AppData\Local\Microsoft\Windows\Temporary Internet Files\Content.IE5\51IOV3H9\MC900251102[1].wmf"/>
          <p:cNvPicPr/>
          <p:nvPr/>
        </p:nvPicPr>
        <p:blipFill>
          <a:blip r:embed="rId2"/>
          <a:stretch/>
        </p:blipFill>
        <p:spPr>
          <a:xfrm>
            <a:off x="6012000" y="242100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ubrik 1" descr=""/>
          <p:cNvPicPr/>
          <p:nvPr/>
        </p:nvPicPr>
        <p:blipFill>
          <a:blip r:embed="rId1"/>
          <a:stretch/>
        </p:blipFill>
        <p:spPr>
          <a:xfrm>
            <a:off x="249120" y="341280"/>
            <a:ext cx="8456760" cy="1427040"/>
          </a:xfrm>
          <a:prstGeom prst="rect">
            <a:avLst/>
          </a:prstGeom>
          <a:ln w="0">
            <a:noFill/>
          </a:ln>
        </p:spPr>
      </p:pic>
      <p:pic>
        <p:nvPicPr>
          <p:cNvPr id="404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dikt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roman </a:t>
            </a:r>
            <a:r>
              <a:rPr b="0" lang="en-US" sz="2600" spc="-1" strike="noStrike">
                <a:solidFill>
                  <a:srgbClr val="dfe6d0"/>
                </a:solidFill>
                <a:latin typeface="Broadway"/>
                <a:ea typeface="Aparajita"/>
              </a:rPr>
              <a:t>låttext </a:t>
            </a:r>
            <a:r>
              <a:rPr b="0" lang="en-US" sz="2600" spc="-1" strike="noStrike">
                <a:solidFill>
                  <a:srgbClr val="dfe6d0"/>
                </a:solidFill>
                <a:latin typeface="Copperplate Gothic Bold"/>
              </a:rPr>
              <a:t>pjäs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fe6d0"/>
                </a:solidFill>
                <a:latin typeface="Blackadder ITC"/>
              </a:rPr>
              <a:t>saga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1" lang="en-US" sz="2600" spc="-1" strike="noStrike">
                <a:solidFill>
                  <a:srgbClr val="dfe6d0"/>
                </a:solidFill>
                <a:latin typeface="Bradley Hand ITC"/>
              </a:rPr>
              <a:t>poesi  </a:t>
            </a:r>
            <a:r>
              <a:rPr b="0" lang="en-US" sz="4300" spc="-1" strike="noStrike">
                <a:solidFill>
                  <a:srgbClr val="dfe6d0"/>
                </a:solidFill>
                <a:latin typeface="Chiller"/>
              </a:rPr>
              <a:t>fantasy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tecknad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serie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ortroman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</a:rPr>
              <a:t>filmmanus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roadway"/>
              </a:rPr>
              <a:t>berättelse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deckare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  <a:ea typeface="Arabic Typesetting"/>
              </a:rPr>
              <a:t>novel</a:t>
            </a:r>
            <a:r>
              <a:rPr b="0" lang="en-US" sz="2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l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ernard MT Condensed"/>
              </a:rPr>
              <a:t>grafisk </a:t>
            </a:r>
            <a:r>
              <a:rPr b="0" lang="en-US" sz="2600" spc="-1" strike="noStrike">
                <a:solidFill>
                  <a:srgbClr val="dfe6d0"/>
                </a:solidFill>
                <a:latin typeface="Bernard MT Condensed"/>
                <a:ea typeface="Aharoni"/>
              </a:rPr>
              <a:t>roman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anske något annat?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ubrik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94920" y="1628640"/>
            <a:ext cx="388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nvänd din fantasi och uttryck något du vill berätta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ormen för ditt berättande väljer du själv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ör att komma igång kan du läsa någon av ungdomsböckerna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ur listan med boktips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Eller läs och låt dej inspireras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v de tips som finns i de före-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lagna fackböckerna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Om du vill fortsätta di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nde åk gärna på e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rläger i sommar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ubrik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240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letcher, R Den unge författarens verkty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eorge, E Skriv på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ärle, H Skriv och skriv vid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arlsson, Y Skriv om och om ige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üchen, M Att skriva börjar här version 2.0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Nasiell, A Börja skriva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ubrik 1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3073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-3568680" y="1422360"/>
            <a:ext cx="40989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23640" y="1557360"/>
            <a:ext cx="4173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Ungdomsböcker om eget skrivande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tefan Casta * Näktergalens sång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Inger Edelfeldt * Hemligt ansikte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Bo R. Holmberg * Hon heter Beatrice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Cannie Möller * M som i Mara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Mikael Niemi * Skjut apelsine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Per Nilsson * Absolut Per Nilsso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wedenmark * Mellan två världar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2"/>
              </a:rPr>
              <a:t>http</a:t>
            </a: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3"/>
              </a:rPr>
              <a:t>://www.ofhs.ltkalmar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4"/>
              </a:rPr>
              <a:t>www.gotland.fhsk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5"/>
              </a:rPr>
              <a:t>www.fhsk.skurup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     </a:t>
            </a: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Citat ur: Världens bästa citat om böcker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latshållare för innehåll 6" descr=""/>
          <p:cNvPicPr/>
          <p:nvPr/>
        </p:nvPicPr>
        <p:blipFill>
          <a:blip r:embed="rId6"/>
          <a:stretch/>
        </p:blipFill>
        <p:spPr>
          <a:xfrm>
            <a:off x="4067280" y="1506600"/>
            <a:ext cx="4041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38:08Z</dcterms:created>
  <dc:creator>Kroon Ingeli</dc:creator>
  <dc:description/>
  <dc:language>en-US</dc:language>
  <cp:lastModifiedBy>Kroon Ingeli</cp:lastModifiedBy>
  <dcterms:modified xsi:type="dcterms:W3CDTF">2011-02-11T13:46:37Z</dcterms:modified>
  <cp:revision>34</cp:revision>
  <dc:subject/>
  <dc:title>Flitigt läsa gör dej klok därför läs varenda bok</dc:title>
</cp:coreProperties>
</file>